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040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 flipH="1">
            <a:off x="5327640" y="2895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645160" y="3048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664080" y="198108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477120" y="1987560"/>
            <a:ext cx="612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93520" y="282600"/>
            <a:ext cx="218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69760" y="1090440"/>
            <a:ext cx="90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05920" y="851040"/>
            <a:ext cx="103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4760" y="851040"/>
            <a:ext cx="61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11240" y="10954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22680" y="109548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2160" y="1565280"/>
            <a:ext cx="132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1800" y="1793880"/>
            <a:ext cx="1425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39320" y="2327400"/>
            <a:ext cx="73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11240" y="1547640"/>
            <a:ext cx="1816200" cy="105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95480" y="156528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21280" y="1547640"/>
            <a:ext cx="6728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5600" y="1565280"/>
            <a:ext cx="76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15080" y="154764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41320" y="1565280"/>
            <a:ext cx="2433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5320" y="2843280"/>
            <a:ext cx="1722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11240" y="2749680"/>
            <a:ext cx="1587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5080" y="2766960"/>
            <a:ext cx="58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38560" y="27496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91040" y="290844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11440" y="3206880"/>
            <a:ext cx="212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638680" y="2889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43880" y="290844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67560" y="199404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21440" y="2801880"/>
            <a:ext cx="934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73520" y="253836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00440" y="291924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760" y="3529080"/>
            <a:ext cx="984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45080" y="355932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16080" y="3857760"/>
            <a:ext cx="946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4960" y="4138560"/>
            <a:ext cx="725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7000" y="4121280"/>
            <a:ext cx="11304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4121280"/>
            <a:ext cx="901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63880" y="4800600"/>
            <a:ext cx="10206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5920" y="490068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52800" y="4873680"/>
            <a:ext cx="8650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30480" y="4900680"/>
            <a:ext cx="986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8160" y="5338800"/>
            <a:ext cx="34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95720" y="3857760"/>
            <a:ext cx="182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5280" y="3857760"/>
            <a:ext cx="105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74960" y="3857760"/>
            <a:ext cx="766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40920" y="3857760"/>
            <a:ext cx="126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7240" y="421020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7240" y="461340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7240" y="5011560"/>
            <a:ext cx="1587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7240" y="541656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88160" y="42148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88160" y="46371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88160" y="5035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88160" y="543384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54640" y="421020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54640" y="461340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54640" y="5011560"/>
            <a:ext cx="857520" cy="28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54640" y="541656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5800" y="42148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5800" y="46371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5800" y="5035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5800" y="543384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93040" y="4210200"/>
            <a:ext cx="88272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93040" y="4613400"/>
            <a:ext cx="88272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93040" y="5011560"/>
            <a:ext cx="882720" cy="31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3040" y="5416560"/>
            <a:ext cx="882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54520" y="460692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54520" y="501156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54520" y="539280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421488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75560" y="461340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75560" y="501156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75560" y="541656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43160" y="6270480"/>
            <a:ext cx="128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8800" y="6656400"/>
            <a:ext cx="15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52560" y="662796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82760" y="6691320"/>
            <a:ext cx="125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9440" y="662796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0040" y="6673680"/>
            <a:ext cx="1744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19840" y="662796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8800" y="7107120"/>
            <a:ext cx="15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52560" y="704376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80960" y="7089840"/>
            <a:ext cx="1650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5600" y="702612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26200" y="7054920"/>
            <a:ext cx="198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29680" y="702612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27640" y="228600"/>
            <a:ext cx="1278720" cy="1184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762040" y="841320"/>
            <a:ext cx="597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458200" y="725400"/>
            <a:ext cx="368280" cy="5698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220968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40440" y="208116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00400" y="3235320"/>
            <a:ext cx="1495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3240" y="22096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46400" y="4084560"/>
            <a:ext cx="480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49840" y="421956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53520" y="113184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05480" y="1149480"/>
            <a:ext cx="1083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10, NET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40480" y="1571760"/>
            <a:ext cx="10836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J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J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10, NET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45480" y="1571760"/>
            <a:ext cx="437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51440" y="1571760"/>
            <a:ext cx="68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J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3240" y="463680"/>
            <a:ext cx="1282680" cy="901440"/>
          </a:xfrm>
          <a:custGeom>
            <a:avLst/>
            <a:gdLst>
              <a:gd name="textAreaLeft" fmla="*/ 47520 w 1282680"/>
              <a:gd name="textAreaRight" fmla="*/ 1235520 w 1282680"/>
              <a:gd name="textAreaTop" fmla="*/ 33120 h 901440"/>
              <a:gd name="textAreaBottom" fmla="*/ 720000 h 901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15000" y="609480"/>
            <a:ext cx="1069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OUNT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2867040"/>
            <a:ext cx="6829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J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J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51240" y="2790720"/>
            <a:ext cx="68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J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03720" y="2943360"/>
            <a:ext cx="68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J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99240" y="2046240"/>
            <a:ext cx="68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J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80600" y="2943360"/>
            <a:ext cx="69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38320" y="4162320"/>
            <a:ext cx="691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69800" y="4138560"/>
            <a:ext cx="437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9800" y="4924440"/>
            <a:ext cx="437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29000" y="4238640"/>
            <a:ext cx="566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08219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.09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2,500.00                 19.5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6640" y="4660920"/>
            <a:ext cx="566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08219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.095                     2,519.52                19.6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29000" y="5059440"/>
            <a:ext cx="841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08219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.095                     2,539.19                19.8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29000" y="5457960"/>
            <a:ext cx="9325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08219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.095                      2,559.02                19.9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7240" y="5797440"/>
            <a:ext cx="16639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54640" y="5797440"/>
            <a:ext cx="82548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3960" y="5797440"/>
            <a:ext cx="9018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6960" y="5797440"/>
            <a:ext cx="9777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76640" y="5797440"/>
            <a:ext cx="283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48160" y="5797440"/>
            <a:ext cx="283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67840" y="5762520"/>
            <a:ext cx="270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29000" y="5838840"/>
            <a:ext cx="566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0082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.095                      2,579.00                  2.0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440" y="6248520"/>
            <a:ext cx="989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739152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AK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19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4T18:20:20Z</dcterms:created>
  <dc:creator>Soldier Support Institute</dc:creator>
  <dc:description/>
  <dc:language>en-US</dc:language>
  <cp:lastModifiedBy>Administrator</cp:lastModifiedBy>
  <cp:lastPrinted>1999-12-08T18:05:32Z</cp:lastPrinted>
  <dcterms:modified xsi:type="dcterms:W3CDTF">2004-09-16T14:15:35Z</dcterms:modified>
  <cp:revision>3</cp:revision>
  <dc:subject/>
  <dc:title>DUE DATES</dc:title>
</cp:coreProperties>
</file>